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20 Бионеорганска хемија 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комплексни јон апсорбује светлост његов валентни електрон се ексцитује и прелази из нижег енергетског нивоа 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иши ниво Е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а апсорбоване светлости (Е = h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једнака је разлици  енергија тих нивоа односно величини расцепа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дговарајућем лигандном пољ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порастом расцепа електрону је потребно више енергије → апсорбује кванте светлости веће енергије, веће фреквеције тј. мање таласне дуж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а се помера ка ултраљубичастој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је потребна мала енергија → ближе инфрацрвеној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0" y="112500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они спектар – скок електрона – електронски спек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ергију скока поседују фотони ултраљубичастог и видљивог спект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/VIS спектроскопија значајна за карактеризацију и одређивање структуре молеку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пропуштене светлости – боја комплек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комплекса најчешће зависи од врсте јона 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апсорпционих максимума указује на постојање више прелаз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79280" y="1096560"/>
            <a:ext cx="85075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ксааквабакар(II)-комплекси су плаве боје (апсорбује жуто-нараџасту светлост, а пропушта плаву (450 nm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тетрахлорокупрат(II)-комплекса се понаша обрнуто (апсорбује плаву светлост а пропушта жуто-наранџасту 650 n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а боја код ових комплекса потиче од различитих лигана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хлоратни раствор титана у коме је јон Ti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облику хексааква комплекса је љубичасте бо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цеп </a:t>
            </a:r>
            <a:r>
              <a:rPr b="0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а хрома у различитом лигандном пољ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187280" y="2637000"/>
          <a:ext cx="6840720" cy="331308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плекс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sr-Latn-R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rCl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6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r(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r(NH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 9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r(CN)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 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981000"/>
            <a:ext cx="91440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расцепа код хексааква комплекса 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М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 3d-мет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258920" y="1484280"/>
          <a:ext cx="6095880" cy="51260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sr-Latn-R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J/m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i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V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r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900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n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 8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Fe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o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 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Ni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u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6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TI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V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r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Mn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6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Fe(H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)</a:t>
                      </a:r>
                      <a:r>
                        <a:rPr b="0" lang="en-US" sz="1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106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расцепа хексаамминских комплекса јона прелазних метала исте d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електронске конфигурације, а различитог атомског бро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39640" y="2997360"/>
          <a:ext cx="7561440" cy="1828800"/>
        </p:xfrm>
        <a:graphic>
          <a:graphicData uri="http://schemas.openxmlformats.org/drawingml/2006/table">
            <a:tbl>
              <a:tblPr/>
              <a:tblGrid>
                <a:gridCol w="1890720"/>
                <a:gridCol w="1889280"/>
                <a:gridCol w="1890720"/>
                <a:gridCol w="189072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m</a:t>
                      </a:r>
                      <a:r>
                        <a:rPr b="1" lang="sr-Latn-R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Δ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R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kJ/mo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Co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Rh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Ir(NH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]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 0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ори који утичу на боју комплексних једиње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2060640"/>
            <a:ext cx="558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 комплексних једињења јона метала који не припадају групи прелазних елемената су безбојни, тј. не апсорбују светлост у видљивом делу спектра (аква комплекси магнезијума, алуминијума, калцијум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5656320" y="2205000"/>
            <a:ext cx="3379680" cy="1152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395280" y="4365720"/>
            <a:ext cx="4572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и комплекса прелазних метала су обојени тј. они апсорбују светлост у видљивом делу спектра електромагнетног зрачења (аква комплекси хрома, гвожђа, кобалта, никла, бакра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2"/>
          <a:stretch/>
        </p:blipFill>
        <p:spPr>
          <a:xfrm>
            <a:off x="5148360" y="4581360"/>
            <a:ext cx="3867120" cy="13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3640" y="1341360"/>
            <a:ext cx="37796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а лиганада има утицај на енергију цепања d-орбитала јона приликом грађења комплек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чина електричног (лигандног) поља утичу на величину расцепа приликом цепања d-орбитал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на боју комплекса утиче и оксидационо стање јона мет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4284720" y="1197000"/>
            <a:ext cx="4621320" cy="1433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427640" y="2852640"/>
            <a:ext cx="4271760" cy="16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3"/>
          <a:stretch/>
        </p:blipFill>
        <p:spPr>
          <a:xfrm>
            <a:off x="5148360" y="4724280"/>
            <a:ext cx="30240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нзитет тр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700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нимању спектра комплекса прелазних метала у видљивој и блиској инфрацрвеној области добија се једна или више трака релативно ниског интензитета са моларним екстинкционим коефицијентом од 1 до 1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 траке се приписују d-d прелазима па их називамо  d-d тра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и лигандног 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ултраљубичастој области спектар обично садржи неколико трака високог интензитета са моларним екстинкционим коефицијентомод 10000-100000 = унутрашње лигандни прелази = пренос наелектрисања са централног јона метала на лиганде и обрнуто = лигандне тра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6099120" cy="273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755640" y="3860640"/>
            <a:ext cx="3917880" cy="2664000"/>
          </a:xfrm>
          <a:prstGeom prst="rect">
            <a:avLst/>
          </a:prstGeom>
          <a:ln w="0">
            <a:noFill/>
          </a:ln>
        </p:spPr>
      </p:pic>
      <p:sp>
        <p:nvSpPr>
          <p:cNvPr id="72" name="TextBox 5"/>
          <p:cNvSpPr/>
          <p:nvPr/>
        </p:nvSpPr>
        <p:spPr>
          <a:xfrm>
            <a:off x="6300720" y="2060640"/>
            <a:ext cx="264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-VIS спек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4502520" y="4941720"/>
            <a:ext cx="427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V-VIS спектрофото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Електронски спектри комплекса прелазних метал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рацрвена (IR) спектроско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0920" y="1628640"/>
            <a:ext cx="4041720" cy="2256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95280" y="4005360"/>
            <a:ext cx="4892760" cy="196668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/>
          <p:cNvSpPr/>
          <p:nvPr/>
        </p:nvSpPr>
        <p:spPr>
          <a:xfrm>
            <a:off x="4152240" y="1989000"/>
            <a:ext cx="3426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 спектрофотомет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4857120" y="4508640"/>
            <a:ext cx="39891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лед IR спектра компл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K[Cr(ox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комплекс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773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 објашњена магнетних особина комплекса теорија лигандног поља успешно обајшњава и боју комплескних једињ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ја се јавља као резултат апсорпције светлости одређене таласне дужине из спектра беле светл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, ако усмеримо белу (сунчану) светлост на неку супстанцу она ће један део те светлости апсорбовати, други део одбити (рефлектовати) а трећи део пропусти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1052640"/>
            <a:ext cx="896472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пуштени део светлости опажамо као боју те супстанц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 материја апсорбује и рефлектује светлост само одређене  таласне дужине то значи да опажајући боју неке супстанце ми заправо опажамо светлост одређене таласне дуж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нека супстанца пропушта фотоне свих таласних дужина од 400 до 700 nm онда је та супстанца безбој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упстанца абсорбује фотоне свих таласних дужина она је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р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абсорбује од 400 до 600 nm, а пропушта од 600 до 700 nm (црвена област) она је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рве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0" y="981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је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у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је ако пропушта светлост таласне дужине од 500 до 600 nm (жута област), а апсорбује светлост осталих таласних дужина од 400-500 nm и 600-700 n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је </a:t>
            </a:r>
            <a:r>
              <a:rPr b="1" lang="en-US" sz="3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љубичаст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је ако пропушта светлост таласних дужина од 380-420 nm, а апсорбује светлости осталих таласних дужи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боје можемо знати талaсне дужине апсорбованих светл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-360" y="981000"/>
            <a:ext cx="889308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може бити љубичасте боје иако абсорбује само фотоне од 500-600 nm (жуте фотоне), а пропушта фотоне љубичастог (380-420 nm), плавог  (400-500 nm) и црвеног (600-700 nm) дела спект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а је љубичасте боје зато што поред љубичастог спектра пропушта и плави и црвени део чија смеша даје љубичасту бо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ом случају на основу љубичасте боје супстанце могло би се закључити да супстанца пропушта фотоне од 380-420 nm, а апсорбује сав остали део (420-700 nm) видљиве светлости, а то није тач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457200" y="1052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боје супстанце не можемо поуздано закључити који део спектра је апсорбован, а који пропуштен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мљени апсорпциони спектар показује поуздано шта је апсорбовано, а шта пропуштено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981000"/>
            <a:ext cx="914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бојне супстанце апсорбују фотоне ултраљубичастог дела спектра (250-350 nm) који је невидљив за људско ок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е које имају диполне молекуле апсорбују у инфрацрвеном (такође невидљивом) делу спектра (&gt;800 n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и који имају електронску конфигурацију племенитих гасова са 18 електрона у спољашњим орбиталама или 18+2 конфигурацију не поседују електронске прелазе који одговарају видљивој светлости (350-800 nm). Бела светлост пролази кроз раствор тих јона без апсорпције па је раствор таквих јона безбојан (јони алкалних, земноалкалних метала, јони халогених елемената и јони Z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B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љиви део спектра у таласним бројевима и таласним дужин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00160" y="2421000"/>
            <a:ext cx="89438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6T09:46:50Z</dcterms:modified>
  <cp:revision>179</cp:revision>
  <dc:subject/>
  <dc:title>Slide 1</dc:title>
</cp:coreProperties>
</file>